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C32-EB60-4C54-B3FB-9744C365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6B0-037F-4CA0-8458-CD1A5AD9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C04-BA2D-4EF4-AC11-D7E8B649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0D7-8D6F-4EB8-89EA-0DD499D6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F70-9359-4DFE-A5B4-10E39E50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6BD-443D-45B1-AAC7-AFA35183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A4A-99BF-4F3C-B732-CC9FCA65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49C-5FF8-4BBF-94BE-7D51F815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F71-E952-4547-994B-B7F536E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C52-85B8-4AC0-B654-5B8A8542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434-5FAB-41E2-AF8C-47ECB3A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80C-90EE-42D2-B310-DA506DE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A02-E381-4488-BF42-DFEA78FBA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56113" b="38926"/>
          <a:stretch/>
        </p:blipFill>
        <p:spPr>
          <a:xfrm>
            <a:off x="3124080" y="106668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28600" y="2286000"/>
            <a:ext cx="27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 into Learning.c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name: I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ssword:?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: Round Rock I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the opening page select “View My Classes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roll New Students in the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back to “Enroll Student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box next to the student’s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“Enroll Selecte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ter and  Login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0" t="0" r="53333" b="58731"/>
          <a:stretch/>
        </p:blipFill>
        <p:spPr>
          <a:xfrm>
            <a:off x="457200" y="2514600"/>
            <a:ext cx="640080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304920" y="12193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-in cards can be created to handout to students.  This will have their Name, Username, Password, and District information needed to login to the computer. A pdf file is generated with all the log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8380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 in Cards may not be necessary as the login is their ID number and password is  school number + ID num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7162920" y="2514600"/>
            <a:ext cx="167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nt Roster will give you a list  of all users with usernames and passwor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28333" t="0" r="556" b="51944"/>
          <a:stretch/>
        </p:blipFill>
        <p:spPr>
          <a:xfrm>
            <a:off x="0" y="19810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ify School Ac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33520" y="5791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S’ have access to all schools so be sure to work within your own camp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a Class for the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81113" b="65960"/>
          <a:stretch/>
        </p:blipFill>
        <p:spPr>
          <a:xfrm>
            <a:off x="304920" y="12952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rcRect l="0" t="6008" r="84446" b="61958"/>
          <a:stretch/>
        </p:blipFill>
        <p:spPr>
          <a:xfrm>
            <a:off x="380880" y="4114800"/>
            <a:ext cx="21337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124080" y="1447920"/>
            <a:ext cx="5791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My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Desk Icon to  create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Your class in the field provided: ex.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and click “add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fill in the descriptions, as they are preset and nothing you type in will matter in the long run.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the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0" r="44446" b="13955"/>
          <a:stretch/>
        </p:blipFill>
        <p:spPr>
          <a:xfrm>
            <a:off x="838080" y="768240"/>
            <a:ext cx="70866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4444" t="0" r="22780" b="15894"/>
          <a:stretch/>
        </p:blipFill>
        <p:spPr>
          <a:xfrm>
            <a:off x="0" y="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09480" y="12193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indow will pop-up saying you have one event left to schedule, would you like to schedule it now.  This is the survey – click to schedule and return to the main assessment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6113" t="44059" r="52780" b="26906"/>
          <a:stretch/>
        </p:blipFill>
        <p:spPr>
          <a:xfrm>
            <a:off x="1676520" y="251460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819520" y="4952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Survey if you would like to give thi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58890" b="50941"/>
          <a:stretch/>
        </p:blipFill>
        <p:spPr>
          <a:xfrm>
            <a:off x="1295280" y="1447920"/>
            <a:ext cx="6705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4444" t="0" r="1667" b="60956"/>
          <a:stretch/>
        </p:blipFill>
        <p:spPr>
          <a:xfrm>
            <a:off x="0" y="2362320"/>
            <a:ext cx="9145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ng a New Stu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14444" t="9011" r="66669" b="76977"/>
          <a:stretch/>
        </p:blipFill>
        <p:spPr>
          <a:xfrm>
            <a:off x="3429000" y="1143000"/>
            <a:ext cx="2590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36760" y="12952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on “Add New Student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rcRect l="15000" t="12952" r="35003" b="34981"/>
          <a:stretch/>
        </p:blipFill>
        <p:spPr>
          <a:xfrm>
            <a:off x="304920" y="2209680"/>
            <a:ext cx="685800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144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“Save” or “Save and Add Another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9:13:13Z</dcterms:created>
  <dc:creator>youngr</dc:creator>
  <dc:description/>
  <dc:language>en-US</dc:language>
  <cp:lastModifiedBy>youngr</cp:lastModifiedBy>
  <dcterms:modified xsi:type="dcterms:W3CDTF">2012-03-30T15:10:07Z</dcterms:modified>
  <cp:revision>125</cp:revision>
  <dc:subject/>
  <dc:title>Slide 1</dc:title>
</cp:coreProperties>
</file>